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F5179-ADC6-47D0-8749-C3E31058B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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DB7E0-43DF-477E-9F1C-0B636B99C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6BF8-3DCE-402B-AC0C-BA0136A42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221E-F9BC-4263-9F00-A6E952F3C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DFD7-B349-46BB-B63E-CD56542F6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6889-23B1-4BCE-AFEA-0560B019F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0BA8-CA22-466C-8549-CD6E75DAC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52C4-73E8-4038-B923-E6A68C8F9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2916-2033-4735-B782-A64EAB810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6318-277F-4C95-AA90-766C72015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D498-E716-4EB2-8B2C-0BC00BBC8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AB6F-678D-4DF3-A731-22B84AC04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53B9-8131-4813-B2BB-7CBF327E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E4A8-7BA5-43C3-8065-D05034D6D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D5E04-3EF9-4B7E-98D5-608C7FF922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971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f0"/>
                </a:solidFill>
                <a:latin typeface="Cooper Black"/>
              </a:rPr>
              <a:t>Ancient Greec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ff19"/>
                </a:solidFill>
                <a:latin typeface="Calibri"/>
              </a:rPr>
              <a:t>Vocabulary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Julia Broadw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http://t1.gstatic.com/images?q=tbn:ANd9GcQLNrIImST97jqJotoYRRTpEPrIWRbGIO6wXMSy3bGG4o47Gp6-lA"/>
          <p:cNvPicPr/>
          <p:nvPr/>
        </p:nvPicPr>
        <p:blipFill>
          <a:blip r:embed="rId1"/>
          <a:stretch/>
        </p:blipFill>
        <p:spPr>
          <a:xfrm rot="20608200">
            <a:off x="555480" y="668160"/>
            <a:ext cx="2791080" cy="1638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http://t3.gstatic.com/images?q=tbn:ANd9GcQevod2Wgy_ld-EDp8PKzQBMZS1Ztdmv20APzAdXiWBIB8658LA"/>
          <p:cNvPicPr/>
          <p:nvPr/>
        </p:nvPicPr>
        <p:blipFill>
          <a:blip r:embed="rId2"/>
          <a:stretch/>
        </p:blipFill>
        <p:spPr>
          <a:xfrm rot="1391400">
            <a:off x="6664320" y="577800"/>
            <a:ext cx="1820880" cy="21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Jokerman"/>
              </a:rPr>
              <a:t>Poli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2"/>
          <p:cNvSpPr/>
          <p:nvPr/>
        </p:nvSpPr>
        <p:spPr>
          <a:xfrm>
            <a:off x="2209680" y="1143000"/>
            <a:ext cx="563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Cooper Black"/>
              </a:rPr>
              <a:t>A Greek city-st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http://t2.gstatic.com/images?q=tbn:ANd9GcSscfcahPsEMIOPm9cS9lOBc56hHCi2AhgNvEVaRmt6EUP9yucqqA"/>
          <p:cNvPicPr/>
          <p:nvPr/>
        </p:nvPicPr>
        <p:blipFill>
          <a:blip r:embed="rId1"/>
          <a:stretch/>
        </p:blipFill>
        <p:spPr>
          <a:xfrm>
            <a:off x="2438280" y="2590920"/>
            <a:ext cx="4876920" cy="36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Jokerman"/>
              </a:rPr>
              <a:t>Philoso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2"/>
          <p:cNvSpPr/>
          <p:nvPr/>
        </p:nvSpPr>
        <p:spPr>
          <a:xfrm>
            <a:off x="1219320" y="129528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Cooper Black"/>
              </a:rPr>
              <a:t>A study of wisdom and the right way to liv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5"/>
          <p:cNvSpPr/>
          <p:nvPr/>
        </p:nvSpPr>
        <p:spPr>
          <a:xfrm>
            <a:off x="63360" y="-901800"/>
            <a:ext cx="24768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7"/>
          <p:cNvSpPr/>
          <p:nvPr/>
        </p:nvSpPr>
        <p:spPr>
          <a:xfrm>
            <a:off x="63360" y="-901800"/>
            <a:ext cx="24768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63360" y="-884160"/>
            <a:ext cx="24768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1"/>
          <p:cNvSpPr/>
          <p:nvPr/>
        </p:nvSpPr>
        <p:spPr>
          <a:xfrm>
            <a:off x="63360" y="-884160"/>
            <a:ext cx="24768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untitled.bmp"/>
          <p:cNvPicPr/>
          <p:nvPr/>
        </p:nvPicPr>
        <p:blipFill>
          <a:blip r:embed="rId1"/>
          <a:stretch/>
        </p:blipFill>
        <p:spPr>
          <a:xfrm>
            <a:off x="2743200" y="2895480"/>
            <a:ext cx="431496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Jokerman"/>
              </a:rPr>
              <a:t>Peninsu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1523880" y="129528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Cooper Black"/>
              </a:rPr>
              <a:t>An area of land nearly surrounded by wat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2"/>
          <p:cNvSpPr/>
          <p:nvPr/>
        </p:nvSpPr>
        <p:spPr>
          <a:xfrm>
            <a:off x="63360" y="-884160"/>
            <a:ext cx="24768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jbb.bmp"/>
          <p:cNvPicPr/>
          <p:nvPr/>
        </p:nvPicPr>
        <p:blipFill>
          <a:blip r:embed="rId1"/>
          <a:stretch/>
        </p:blipFill>
        <p:spPr>
          <a:xfrm>
            <a:off x="1371600" y="3124080"/>
            <a:ext cx="3581280" cy="2487600"/>
          </a:xfrm>
          <a:prstGeom prst="rect">
            <a:avLst/>
          </a:prstGeom>
          <a:ln w="0">
            <a:noFill/>
          </a:ln>
        </p:spPr>
      </p:pic>
      <p:sp>
        <p:nvSpPr>
          <p:cNvPr id="96" name="Oval 5"/>
          <p:cNvSpPr/>
          <p:nvPr/>
        </p:nvSpPr>
        <p:spPr>
          <a:xfrm>
            <a:off x="2438280" y="3581280"/>
            <a:ext cx="2667240" cy="1600200"/>
          </a:xfrm>
          <a:prstGeom prst="ellips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Jokerman"/>
              </a:rPr>
              <a:t>Olig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2"/>
          <p:cNvSpPr/>
          <p:nvPr/>
        </p:nvSpPr>
        <p:spPr>
          <a:xfrm>
            <a:off x="762120" y="144792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Cooper Black"/>
              </a:rPr>
              <a:t>The kind of government that is run by a small group of peop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jbjb.bmp"/>
          <p:cNvPicPr/>
          <p:nvPr/>
        </p:nvPicPr>
        <p:blipFill>
          <a:blip r:embed="rId1"/>
          <a:stretch/>
        </p:blipFill>
        <p:spPr>
          <a:xfrm>
            <a:off x="2209680" y="3429000"/>
            <a:ext cx="443412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Jokerman"/>
              </a:rPr>
              <a:t>Harb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2"/>
          <p:cNvSpPr/>
          <p:nvPr/>
        </p:nvSpPr>
        <p:spPr>
          <a:xfrm>
            <a:off x="1295280" y="1295280"/>
            <a:ext cx="647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Cooper Black"/>
              </a:rPr>
              <a:t>A sheltered place along a coastlin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jbh.jpg"/>
          <p:cNvPicPr/>
          <p:nvPr/>
        </p:nvPicPr>
        <p:blipFill>
          <a:blip r:embed="rId1"/>
          <a:stretch/>
        </p:blipFill>
        <p:spPr>
          <a:xfrm>
            <a:off x="2971800" y="289548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Jokerman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oper Black"/>
              </a:rPr>
              <a:t>A large hill which the Greeks built their city-states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9" descr="http://t2.gstatic.com/images?q=tbn:ANd9GcR6WQFZPTmgNkpCObs_th6nXNjc-GyI_A548Zs4Mo05NkqKSu-ytw"/>
          <p:cNvPicPr/>
          <p:nvPr/>
        </p:nvPicPr>
        <p:blipFill>
          <a:blip r:embed="rId1"/>
          <a:stretch/>
        </p:blipFill>
        <p:spPr>
          <a:xfrm>
            <a:off x="1828800" y="2590920"/>
            <a:ext cx="5562720" cy="37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Jokerman"/>
              </a:rPr>
              <a:t>Ag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oper Black"/>
              </a:rPr>
              <a:t>A place where Greeks meet and condu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oper Black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Cooper Black"/>
              </a:rPr>
              <a:t>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http://t0.gstatic.com/images?q=tbn:ANd9GcTeWGIsv-XuhjATLENciyF8DPq73gO2KxbjDMWl1_Z3nZQI6Azq"/>
          <p:cNvPicPr/>
          <p:nvPr/>
        </p:nvPicPr>
        <p:blipFill>
          <a:blip r:embed="rId1"/>
          <a:stretch/>
        </p:blipFill>
        <p:spPr>
          <a:xfrm>
            <a:off x="2209680" y="2438280"/>
            <a:ext cx="5257800" cy="37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Jokerman"/>
              </a:rPr>
              <a:t>Assembl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114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oper Black"/>
              </a:rPr>
              <a:t>A lawmaking place where people voted on issues that helped their city</a:t>
            </a: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http://t1.gstatic.com/images?q=tbn:ANd9GcRA90SkPU5M7NScxdih0Mws6uMJsExNtEB7_-hmyukPgJSYpzjC"/>
          <p:cNvPicPr/>
          <p:nvPr/>
        </p:nvPicPr>
        <p:blipFill>
          <a:blip r:embed="rId1"/>
          <a:stretch/>
        </p:blipFill>
        <p:spPr>
          <a:xfrm>
            <a:off x="2209680" y="2895480"/>
            <a:ext cx="4724640" cy="35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ff"/>
                </a:solidFill>
                <a:latin typeface="Jokerman"/>
              </a:rPr>
              <a:t>Citiz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1752480" y="1447920"/>
            <a:ext cx="6019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ooper Black"/>
              </a:rPr>
              <a:t>A person who has certain rights and responsibilities to his or her cou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http://t1.gstatic.com/images?q=tbn:ANd9GcSCuFdSSnVmqoaXUzU4ElIlNAdpyD53BPg6x3c6tboJNvOesBNTXA"/>
          <p:cNvPicPr/>
          <p:nvPr/>
        </p:nvPicPr>
        <p:blipFill>
          <a:blip r:embed="rId1"/>
          <a:stretch/>
        </p:blipFill>
        <p:spPr>
          <a:xfrm>
            <a:off x="2189160" y="3956040"/>
            <a:ext cx="472428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2"/>
          <p:cNvSpPr/>
          <p:nvPr/>
        </p:nvSpPr>
        <p:spPr>
          <a:xfrm>
            <a:off x="1600200" y="30492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3600" spc="-1" strike="noStrike">
                <a:solidFill>
                  <a:srgbClr val="0000ff"/>
                </a:solidFill>
                <a:latin typeface="Jokerman"/>
              </a:rPr>
              <a:t>Colo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3"/>
          <p:cNvSpPr/>
          <p:nvPr/>
        </p:nvSpPr>
        <p:spPr>
          <a:xfrm>
            <a:off x="914400" y="990720"/>
            <a:ext cx="6705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Cooper Black"/>
              </a:rPr>
              <a:t>A group of people who lived apart from Greece but kept economic ties with 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http://t3.gstatic.com/images?q=tbn:ANd9GcRM4fguvp5V-POBsb5SO5UAdqSpRF3FVpHs9jVRnEUREk5vyeAy"/>
          <p:cNvPicPr/>
          <p:nvPr/>
        </p:nvPicPr>
        <p:blipFill>
          <a:blip r:embed="rId1"/>
          <a:stretch/>
        </p:blipFill>
        <p:spPr>
          <a:xfrm>
            <a:off x="762120" y="3962520"/>
            <a:ext cx="3456000" cy="2381040"/>
          </a:xfrm>
          <a:prstGeom prst="rect">
            <a:avLst/>
          </a:prstGeom>
          <a:ln w="0">
            <a:noFill/>
          </a:ln>
        </p:spPr>
      </p:pic>
      <p:sp>
        <p:nvSpPr>
          <p:cNvPr id="67" name="TextBox 5"/>
          <p:cNvSpPr/>
          <p:nvPr/>
        </p:nvSpPr>
        <p:spPr>
          <a:xfrm>
            <a:off x="5715000" y="3505320"/>
            <a:ext cx="1905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Equals the 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colon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Curved Down Arrow 6"/>
          <p:cNvSpPr/>
          <p:nvPr/>
        </p:nvSpPr>
        <p:spPr>
          <a:xfrm>
            <a:off x="3581280" y="2895480"/>
            <a:ext cx="2286000" cy="1295640"/>
          </a:xfrm>
          <a:custGeom>
            <a:avLst/>
            <a:gdLst>
              <a:gd name="textAreaLeft" fmla="*/ 450000 w 2286000"/>
              <a:gd name="textAreaRight" fmla="*/ 1674000 w 2286000"/>
              <a:gd name="textAreaTop" fmla="*/ 173520 h 1295640"/>
              <a:gd name="textAreaBottom" fmla="*/ 112212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505" hR="21600" stAng="10800000" swAng="5400000"/>
                <a:lnTo>
                  <a:pt x="11565" y="0"/>
                </a:lnTo>
                <a:arcTo wR="8505" hR="21600" stAng="-5400000" swAng="3404725"/>
                <a:lnTo>
                  <a:pt x="21330" y="16200"/>
                </a:lnTo>
                <a:lnTo>
                  <a:pt x="18540" y="21600"/>
                </a:lnTo>
                <a:lnTo>
                  <a:pt x="15210" y="16200"/>
                </a:lnTo>
                <a:lnTo>
                  <a:pt x="16740" y="16200"/>
                </a:lnTo>
                <a:arcTo wR="8505" hR="21600" stAng="-1995275" swAng="-3157606"/>
                <a:lnTo>
                  <a:pt x="10035" y="352"/>
                </a:lnTo>
                <a:arcTo wR="8505" hR="21600" stAng="-5647119" swAng="-5152881"/>
                <a:close/>
              </a:path>
              <a:path fill="darkenLess" w="21600" h="21600">
                <a:moveTo>
                  <a:pt x="0" y="21600"/>
                </a:moveTo>
                <a:arcTo wR="8505" hR="21600" stAng="10800000" swAng="5400000"/>
                <a:lnTo>
                  <a:pt x="8505" y="0"/>
                </a:lnTo>
                <a:arcTo wR="8505" hR="21600" stAng="-5400000" swAng="247119"/>
                <a:lnTo>
                  <a:pt x="10035" y="352"/>
                </a:lnTo>
                <a:arcTo wR="8505" hR="21600" stAng="-5647119" swAng="-5152881"/>
                <a:close/>
              </a:path>
            </a:pathLst>
          </a:custGeom>
          <a:solidFill>
            <a:srgbClr val="ff00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Jokerman"/>
              </a:rPr>
              <a:t>Democrac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2"/>
          <p:cNvSpPr/>
          <p:nvPr/>
        </p:nvSpPr>
        <p:spPr>
          <a:xfrm>
            <a:off x="1752480" y="137160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Arial"/>
              </a:rPr>
              <a:t>A form of government where people vote to make decis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http://t1.gstatic.com/images?q=tbn:ANd9GcRAql_D7GSSFXfVjtoPeMQVNg7f76VFzdzSSAqOtuOsOoE_4weo4g"/>
          <p:cNvPicPr/>
          <p:nvPr/>
        </p:nvPicPr>
        <p:blipFill>
          <a:blip r:embed="rId1"/>
          <a:stretch/>
        </p:blipFill>
        <p:spPr>
          <a:xfrm>
            <a:off x="2971800" y="3657600"/>
            <a:ext cx="365760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Jokerman"/>
              </a:rPr>
              <a:t>Ju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2"/>
          <p:cNvSpPr/>
          <p:nvPr/>
        </p:nvSpPr>
        <p:spPr>
          <a:xfrm>
            <a:off x="380880" y="144792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Cooper Black"/>
              </a:rPr>
              <a:t>They hear evidence and make decisions in a court of law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2"/>
          <p:cNvSpPr/>
          <p:nvPr/>
        </p:nvSpPr>
        <p:spPr>
          <a:xfrm>
            <a:off x="63360" y="-326880"/>
            <a:ext cx="1276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4"/>
          <p:cNvSpPr/>
          <p:nvPr/>
        </p:nvSpPr>
        <p:spPr>
          <a:xfrm>
            <a:off x="63360" y="-326880"/>
            <a:ext cx="1276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6"/>
          <p:cNvSpPr/>
          <p:nvPr/>
        </p:nvSpPr>
        <p:spPr>
          <a:xfrm>
            <a:off x="63360" y="-754200"/>
            <a:ext cx="291492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8"/>
          <p:cNvSpPr/>
          <p:nvPr/>
        </p:nvSpPr>
        <p:spPr>
          <a:xfrm>
            <a:off x="63360" y="-754200"/>
            <a:ext cx="291492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0" descr="http://t3.gstatic.com/images?q=tbn:ANd9GcQw3cTmq9V5MaZmD7vm_83NKb3McAItCvj4s5e068NkvfJ4g44X"/>
          <p:cNvPicPr/>
          <p:nvPr/>
        </p:nvPicPr>
        <p:blipFill>
          <a:blip r:embed="rId1"/>
          <a:stretch/>
        </p:blipFill>
        <p:spPr>
          <a:xfrm>
            <a:off x="1752480" y="3290760"/>
            <a:ext cx="5715000" cy="30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Jokerman"/>
              </a:rPr>
              <a:t>Mon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2"/>
          <p:cNvSpPr/>
          <p:nvPr/>
        </p:nvSpPr>
        <p:spPr>
          <a:xfrm>
            <a:off x="457200" y="12952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Cooper Black"/>
              </a:rPr>
              <a:t>Government headed by one ru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http://t2.gstatic.com/images?q=tbn:ANd9GcSJBIFUnQOBX4rJumWfLgSCiwUvWP3PAu4-F2VJfVD5r6qZUIyI"/>
          <p:cNvPicPr/>
          <p:nvPr/>
        </p:nvPicPr>
        <p:blipFill>
          <a:blip r:embed="rId1"/>
          <a:stretch/>
        </p:blipFill>
        <p:spPr>
          <a:xfrm>
            <a:off x="2209680" y="3733920"/>
            <a:ext cx="472464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poweruser</cp:lastModifiedBy>
  <dcterms:modified xsi:type="dcterms:W3CDTF">2012-03-06T00:03:12Z</dcterms:modified>
  <cp:revision>91</cp:revision>
  <dc:subject/>
  <dc:title>Ancient Greece</dc:title>
</cp:coreProperties>
</file>